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156-D39B-48F5-93CD-33AC0B74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BDD-96C6-41CA-8FCB-B0F77A83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3B8-24BC-494B-B162-F22C1AB2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F24-1F22-4375-A124-C4F3B49E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284-A787-4ECC-8789-0C3DCBA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9BB-6D04-409D-86D9-07050DF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BB9-FA6D-48CB-93A7-48115D6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365-5F4A-47C1-ABBF-8B946287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11B-F4CE-464F-B42D-03C9E7B4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4D4-D9A0-4C27-92E3-1972FCC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852-FEDF-4153-ABA1-60180D5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720-D0A5-47CB-93F2-55A2CAD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E4D8-A06F-4C50-A021-1EF69BC4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kraftrecipes.com/Products/ProductInfoDisplay.aspx?SiteId=1&amp;Product=4300095562" TargetMode="External"/><Relationship Id="rId4" Type="http://schemas.openxmlformats.org/officeDocument/2006/relationships/hyperlink" Target="http://www.kraftrecipes.com/Products/ProductInfoDisplay.aspx?SiteId=1&amp;Product=4300095562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kraftrecipes.com/Products/ProductInfoDisplay.aspx?SiteId=1&amp;Product=4300095562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228600"/>
            <a:ext cx="6934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"/>
              </a:rPr>
              <a:t>Kool - Aid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4724280"/>
            <a:ext cx="4495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riod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mputer 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2840" y="654192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me 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March 11, 2010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762120" y="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 rot="10800000">
            <a:off x="304560" y="5820840"/>
            <a:ext cx="487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raft foods, KOOL-AID POWDERED - SOFT DRINK MIX - CHERRY UNSWEETENED, March 9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raftrecipes.com/Products/ProductInfoDisplay.aspx?SiteId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&amp;Product=43000955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838080"/>
            <a:ext cx="4648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win Perkins made a company which sold medicines and household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, he produced a line of 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or-Maid” items which were sold door-to-door. One of the most popular,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uit Smack”, also known as Kool-Aid modern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 packed this powdered drink and sold them by envelope at grocery s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mand for this product was so high, that Edwin Perkins starte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ing this product. The company was sold to General Foods in 19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nvention: Kool-A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flavors came in strawberry, cherry, lemon lime, grape, orange, and raspbe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Invented in 19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riginally called “Fruit Sm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ackage was sold in 4 ounce. bott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91120"/>
            <a:ext cx="55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         </a:t>
            </a: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This is a modern day vers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  </a:t>
            </a: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Kool-Aid pack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21200"/>
            <a:ext cx="594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Kraft foods, KOOL-AID POWDERED - SOFT DRINK MIX - CHERRY UNSWEETENED, March 9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raftrecipes.com/Products/ProductInfoDisplay.aspx?SiteId=1&amp;Product=43000955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At age 11, Perkins was sent away for a mixer’s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e married Kitty (childhood sweetheart) in 19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erkins started a company in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Died in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07:05Z</dcterms:created>
  <dc:creator>install</dc:creator>
  <dc:description/>
  <dc:language>en-US</dc:language>
  <cp:lastModifiedBy>install</cp:lastModifiedBy>
  <dcterms:modified xsi:type="dcterms:W3CDTF">2010-03-18T13:40:57Z</dcterms:modified>
  <cp:revision>10</cp:revision>
  <dc:subject/>
  <dc:title>Slide 1</dc:title>
</cp:coreProperties>
</file>